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8A5-EEE8-4E77-953F-0AB1C33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32D-93B1-40EC-BD76-383CBD23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D98-22B7-4BF6-B4D2-C065408E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081-B27B-41B7-8F6C-9A10453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6589-4506-4832-9E0B-BFB6238D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4A58-8F05-4534-BD10-2478B922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409-ECD4-453E-BC78-022D2A6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8941-C772-4D08-B655-3ADDB85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373D-32A0-4E9B-B9DE-1F52F8C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4F22-C691-4CE4-B3B0-0AD06D4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E951-C6B9-4CF6-ACAB-1D0DB28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5A1-BCEA-4867-9C7A-D4154EF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C27-25EB-44D0-A25B-E694072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554B-85D9-439C-9074-6E57DA5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7D99-FE96-45F1-AD3B-7857BBA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D282-F2F5-42BD-AD9F-9F4A97D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9A4-3183-47B3-8B77-3F137E38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6BD-6097-4CE2-B064-2FB0AF7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FAB-2771-4C8A-A8C4-8C3DED7A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9FB-5625-4CF2-8037-1C0D221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4B8-7674-48C2-9284-DBD5A1C4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0D0-D521-4A31-A148-7A5795A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D5D-AC9B-4B82-BEBA-0AD9A41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2F6-9216-4210-8A75-F53E1DA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78FB-9BBC-4AB1-9A41-11C8B1A93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0F8-622B-43D3-94F9-7AEB7C6E8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te A Molecul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/Val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(half of a t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Chem 111</a:t>
            </a:r>
            <a:br>
              <a:rPr sz="60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3D Molecule </a:t>
            </a:r>
            <a:br>
              <a:rPr sz="60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Project</a:t>
            </a:r>
            <a:br>
              <a:rPr sz="6000"/>
            </a:b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/ Value -1/2 a test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1-Research VSE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2-Choose one of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ollowing SHAP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rigonal bipyram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Lin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rigonal plan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etrahed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yramidal(trigon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Linear with 2 lone pairs and 2 bonding p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70400" y="2516040"/>
            <a:ext cx="4911480" cy="4065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380880"/>
            <a:ext cx="624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ees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 sha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quare plan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quare pyram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ctahed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45799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Using creativity and imagination design a 3D model to show your VSEPR shape.  Include both the lone pairs and bonding pairs.(Usually it is helpful to use a molecule as an example).  This molecule must be constructed physically.(Not on the computer) ie: paper mache, pieces of wood et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87800" y="2967120"/>
            <a:ext cx="30751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ease include a sign with your model that has a general formula and thenumber of lone pairs and bonding pairs along with the name of the sha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a brief description explaining how to draw your shape . Please use at least 3 referen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a separate piece of paper summarize the information about your shape in a small t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320" y="1676520"/>
          <a:ext cx="8766000" cy="4949640"/>
        </p:xfrm>
        <a:graphic>
          <a:graphicData uri="http://schemas.openxmlformats.org/drawingml/2006/table">
            <a:tbl>
              <a:tblPr/>
              <a:tblGrid>
                <a:gridCol w="1523880"/>
                <a:gridCol w="1547640"/>
                <a:gridCol w="1424160"/>
                <a:gridCol w="1424160"/>
                <a:gridCol w="1422360"/>
                <a:gridCol w="1423800"/>
              </a:tblGrid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ec-ular 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wis electron dot dia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lone pa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of bond-ing pa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of sha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ar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struct-ural dia--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7:36:51Z</dcterms:created>
  <dc:creator>nbdoe</dc:creator>
  <dc:description/>
  <dc:language>en-US</dc:language>
  <cp:lastModifiedBy>nbdoe</cp:lastModifiedBy>
  <dcterms:modified xsi:type="dcterms:W3CDTF">2007-05-18T18:21:58Z</dcterms:modified>
  <cp:revision>2</cp:revision>
  <dc:subject/>
  <dc:title>       Create A Molecule</dc:title>
</cp:coreProperties>
</file>